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44651-1D66-4DCD-AA22-D6260E22D96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C8912-3AAE-4BE1-B5DA-6067E6BD2EF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47544-7514-4696-A997-43D7A3E9518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D513B-EDB2-459D-960D-AB758752195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E816A-E162-4786-8C63-98B95A9BBFF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691D2-2808-4BBE-AF3C-786EC993846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00885-F5C9-43C2-851D-045920C739F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EAFF-C925-4A23-9205-0060F21EC9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2A88-CB12-4835-AF9F-6E62DEFE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A6FB-8A41-4273-83B1-1D1016CA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3CAD-BD59-47AA-8C92-4C4173D0C3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7C516-CBD5-4AF7-9B76-45D8EF16FA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6C3F4-7A66-445A-BF3F-8DA526DD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E61E1-6E6B-44D6-82D2-DFA87EF9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173CE-0A48-4844-BF7F-B6034002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DEEF4-827E-4BCF-873F-D44B7CC7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F9C0A-9E9F-4012-A649-F184F623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1C21F-8DE2-4057-B43B-F5835BDD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EDAE-F5B9-4C50-B695-29639F57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910BD-AD45-42FD-9583-E2E8C1D2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D97B5-0990-4FB8-91CD-7E845EF0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55083-E425-437E-BC5F-4132FFD4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6E669-1367-49C6-AAB2-1371F4F1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6BF46-B857-4525-9576-983F636A2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CBEE-3D54-474C-AF92-517F50E0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ADBF-EEBD-4350-BFC0-1AB9C5F7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8E12-A9CA-4398-B731-F8576AC0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AC24-A46F-4FA3-9099-26456B14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66C8-88F8-4017-BE9F-D9F84E83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B6B0-310C-48F7-A273-18D95F39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65C3-8912-43BD-A17D-2C41A7A1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17/10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EB673-196B-40ED-A3FA-D1BCA95C42C7}" type="slidenum"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17/10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1CF20-3F56-46FE-B126-57C0D8FD6406}" type="slidenum"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57120" y="1357200"/>
            <a:ext cx="860256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r>
              <a:rPr b="1" lang="pt-BR" sz="3600" spc="-1" strike="noStrike">
                <a:solidFill>
                  <a:srgbClr val="191966"/>
                </a:solidFill>
                <a:latin typeface="Arial Black"/>
              </a:rPr>
              <a:t>Revisão dos Benefícios por Incapacidade de Longa Duraçã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  <a:ea typeface="Arial"/>
              </a:rPr>
              <a:t>Resultado do PRBI, com comparação entre benefícios por Incapacidade cessados x reativados por decisão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500040" y="1643040"/>
            <a:ext cx="8143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Auxílio-doe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 sem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563.7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Perícias realizadas até 16/10/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461.9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6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2.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7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29.0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10.0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onclu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convertidos/mantidos/reabilitação profissional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104.264 (2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Cessados com realização de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357.695 (7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Cessados por não atendimento à convocação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54.5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Benefícios cessados (por não atendimento à convocação ou após realização de perícia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412.2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visão dos Benefícios por Incapacida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sultados das perícias realizadas até 16/10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42920" y="1643040"/>
            <a:ext cx="88581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Aposentadoria por inval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 sem perícia (em 06/01/2017 – MP 767/2017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1.175.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Lei nº 13.457: Expurgo de aposentadoria por invalidez (segurado com idade maior ou igual a 55 anos de idade e 15 anos de benefício, até 31/12/2018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369.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805.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Perícias realizadas até 16/10/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645.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onclu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 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cessados com realização de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187.590 (2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 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mantidos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457.534  (7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essados por não atendimento à convocação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19.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Benefícios cessados (por não atendimento à convocação ou após realização de perícia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206.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visão dos Benefícios por Incapacida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sultados das perícias realizadas até 28/08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50004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Índice de reforma das decisões administrativas pelo Poder Judiciário dos benefícios revisados pelo PR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2411280" y="1482840"/>
            <a:ext cx="4104000" cy="48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9200" y="6191280"/>
            <a:ext cx="8920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Fonte: Coordenação-Geral de Gestão da Informação e Controle de Benefícios. Departamento de Benefícios Assistencia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e Previdenciários. Secretaria Nacional de Assistência Social – SNAS. Ministério do Desenvolvimento Social – MDS.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767640" y="5516640"/>
            <a:ext cx="22287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*Base de dados: benefíci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essados até 12/08/2018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0004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1280" y="669960"/>
            <a:ext cx="9001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Índice de reforma das decisões administrativas pelo Poder Judiciário de todos os benefícios indeferidos pelo IN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00040" y="5832360"/>
            <a:ext cx="8564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Fonte: Plano de ação/Coordenação-Geral de Planejamento e Gestão Estratégica/IN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500040" y="2139840"/>
            <a:ext cx="8086680" cy="3619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144360" y="2496960"/>
            <a:ext cx="327240" cy="30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85840" y="1071720"/>
            <a:ext cx="85723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Calibri"/>
              </a:rPr>
              <a:t>Obriga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ra Karina Braido Santurbano de Teive e Arg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etora de Saúde do Trabalhad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SAT – IN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 u="sng">
                <a:solidFill>
                  <a:srgbClr val="003366"/>
                </a:solidFill>
                <a:uFillTx/>
                <a:latin typeface="Calibri"/>
              </a:rPr>
              <a:t>dirsat@inss.gov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4:10:45Z</dcterms:created>
  <dc:creator>inss</dc:creator>
  <dc:description/>
  <dc:language>en-US</dc:language>
  <cp:lastModifiedBy>Silvana do Socorro Machado Rodrigues - MPS</cp:lastModifiedBy>
  <cp:lastPrinted>2018-10-17T21:10:33Z</cp:lastPrinted>
  <dcterms:modified xsi:type="dcterms:W3CDTF">2018-10-17T21:40:15Z</dcterms:modified>
  <cp:revision>6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Apresentação na tela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7</vt:r8>
  </property>
</Properties>
</file>